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3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3.png" ContentType="image/png"/>
  <Override PartName="/ppt/media/image9.wmf" ContentType="image/x-wmf"/>
  <Override PartName="/ppt/media/image37.jpeg" ContentType="image/jpeg"/>
  <Override PartName="/ppt/media/image30.png" ContentType="image/png"/>
  <Override PartName="/ppt/media/image29.jpeg" ContentType="image/jpeg"/>
  <Override PartName="/ppt/media/image3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33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40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5.png" ContentType="image/png"/>
  <Override PartName="/ppt/media/image43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  <p:sldId id="295" r:id="rId62"/>
    <p:sldId id="296" r:id="rId63"/>
    <p:sldId id="29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slide" Target="slides/slide40.xml"/><Relationship Id="rId63" Type="http://schemas.openxmlformats.org/officeDocument/2006/relationships/slide" Target="slides/slide41.xml"/><Relationship Id="rId64" Type="http://schemas.openxmlformats.org/officeDocument/2006/relationships/slide" Target="slides/slide42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3733-5FA0-40F1-9BC3-DDA91212E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15F0-373B-40B5-9BBB-C39B6958E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5C79-6F4D-4DA7-B807-B965FCF7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981E-ABFB-40CF-AC37-3E5926933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B0FE-83B1-4FCF-8C96-CF82A6ED8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6A4-316C-4954-8018-403FAF39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278-83FA-4F80-B6A0-8CF6856A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AA33A-F091-4771-BC5E-22CE9B53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DB88E-DDC8-4E12-8CC4-9FFEA1B8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5BB9D-3BB0-46C1-A827-B72663F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C492B-54A6-48E4-99BF-87F4C394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4FFDA-CF3D-4C4F-93B1-8B957B86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69712-1980-485A-858C-BFA18B5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B62AB-0D86-4982-94CE-B791B843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FC6A0-1D1C-4841-9746-DF49A49E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BE313-58F7-409F-AEB7-591B67C7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57D5B-EF58-4FAD-BD80-66560C57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554-E8E8-44A1-8672-BA0A34BA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8251D-27CF-4814-801B-8DFCFFA4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D0115-728A-41FC-971C-22EE1782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98382-8B41-43FD-B78A-89CE59F8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E383D-F8E5-44DB-AB03-DF513A74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7F566-A38C-4598-999B-0277CD84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2842C-FB85-4144-9FDB-1A602D60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0D7F5-345D-452D-AF63-DA60A66E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E0F2B-6DCD-484C-BDB4-3DF0B024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25D61-CEA6-4921-97C0-F1A85F5B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DC0E5-BBBC-422A-85C8-5008BCD0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0C1-D08A-4CD4-B84F-9AFCF6BB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EEC86-7938-4494-ABF0-CBE0516D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C55D0-46C7-4642-A648-04EC0116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2F4AA-42BC-48A9-A3A1-E07A7A17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249C4-266C-46B1-83FA-38E3EFF2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27986-BE0D-4303-AF4E-9F1D63CC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7A8A1-499F-4C40-82A9-400029E6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1783B-BC8C-4D1F-97C5-2522B130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45044-8AE0-4D79-9B8E-3AFD6C24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8419C-FDF8-4E1E-8D97-01B6CA72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4853C-EDC7-4846-A4E3-2A108BA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DCFC-4B74-42A0-9585-0CF668E1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DC3EC-0A2E-488C-8D5E-1631375C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57A66-D079-4645-AB7F-941AFC35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D89E8-266C-4A91-B9D9-F9A11314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36562-C4ED-4E6A-87D7-A6D1D310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590D1-CE11-4EDF-B2F9-8CE3710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ADAB6-CE0B-4EE7-AA25-A1254DAC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07F00-FC09-4B90-8D5E-BECCF9D0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F1A0D-E840-4442-BE97-FA768DD8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A0BBE-DB2B-4909-B084-974A3B1B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D2744-2ECC-4E89-84BE-F88930F7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C92D-3E30-40D0-9AC3-A7FC711A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8A75E-9E36-44A1-8F82-193A38E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F2978-B683-4452-ADD7-4BBBD9C5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2A590-E3F7-4F33-941E-17C244E1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D7BEC-15E8-4B1B-815C-C400CFD7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2C68D-C566-4E4A-A431-E1DDE478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93D3C-9437-424C-9FEC-54323DE0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DAF3D-CBDF-44CE-94A7-A94EFBC7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A9992-955D-4C36-B28C-EAB02194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10EB5-E586-41DA-B8AB-EBDED6B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3E8BD-9C9A-439A-9717-E11B4F20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76A0-1F64-4B88-8A74-1CCD2930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EC1CF-D030-4670-B2D6-B2AD207D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362FF-1545-4F9B-B9C4-120CB68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7DDC7-F6DC-4157-9201-3ADBAA7D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B0C38-F7D6-4BBE-BBFA-FE4895F9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6FF0C-B6B7-4B92-A7EF-7A6BB81C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1FE91-5053-4E9B-8FB5-40583BA6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98B43-B4C8-46D0-B64A-4B1A5BAA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76F70-A63F-413D-B496-60AB318B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1CDD7-7CE4-4DB3-879D-4E3E92F9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5C7EF-E1CB-45BD-98F1-1870AC2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B986-40FC-4963-A1CB-E9D37BE1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364A2-1EE4-4528-8649-0158F082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6927E-CDB8-4448-AFC5-3D56016E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1E87A-B62C-4258-A578-6390586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E73CA-2FF9-4B9B-9610-96002B88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060C7-6991-4D93-97CB-6965E5CF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56F2D-C286-4E5D-BD9C-C8263700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0EE9F-57F0-446E-AA0D-7110B702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9172A-9B4A-46E7-9B40-3F659BA0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4F5D7-68B5-4810-B382-2ED17A2B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487E2-A5E4-4FA2-AD91-3E20653B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D9C4-C551-46D6-8532-218B8C60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D1F30-68EF-4E49-BB0D-29085AC2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11C69-2BFD-45A3-9241-17FE38F6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C7464-ECBC-4A07-BAFF-BB1C4ECC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210D5-FC03-449F-B834-8D8DA7E6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D0D23-2366-45F7-B86E-96A93EFD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79373-CD4D-4121-AF69-BD1E146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00B0A-9882-41C3-A526-C1872243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D7355-1ECC-43CD-940B-21775C6D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BE57C-7C67-444B-A185-870C89A5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B5514-8A70-43DE-BFAF-5CA7CD8F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9A10-6DCD-43C6-8ED7-B2E43520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FD193-34DA-428C-9F56-F29DCAE2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A5B49-ED20-4965-8AF7-37D9681C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E1E1D-9D50-4E02-8219-6FBEB45F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29A5D-520B-4AF6-87A1-18756DB1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804FF-8397-41C9-AD0C-64533039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B76B7-385F-4DEE-B106-52E27FEC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28E7D-DCF4-44C6-A5FD-0BB522CC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3CB4A-F85E-40EA-A196-861E1279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55119-2FE2-4879-9427-2B68024B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2CBA8-45A6-4B0A-AE65-F3A9E88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25A1-B672-416F-AE8F-79A3A6C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F088B-1F0C-41FD-8934-C2BDDE77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CCF6A-1894-489B-A269-43BAEA97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9A32C-6573-4155-B97C-7A009D3B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52D55-B08D-444E-8CCF-F06BCD43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B7EDA-B482-4288-AF7B-8A6116C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9CB51-9AA0-4EB5-8F42-C987F891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BA479-E54F-4229-89D8-E6D07393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24B98-B8AF-41B1-9F93-AF94E52F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A5A02-F1DC-429A-9FB8-D2E64217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C8694-DB6E-4370-80BC-FF11544A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0EC-98E2-4525-B170-5D74C9C9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EC2A-B86F-475E-B6B5-EB824A1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0F2A7-21EF-4C0B-9FC4-231EA3CD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767D8-ED43-4ECD-AA65-612FFAFD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363B0-1395-4B73-AF46-3BD0C86F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D4CD9-48E7-4957-A527-D9C95F0C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AE96F-A587-4CF0-A4AA-59A4167E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72C08-1C21-494F-858A-25B4769C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99F19-F3E7-4B7E-8AA4-9F810099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75C37-43EF-43C1-8B42-2C593C08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6CE1D-868E-4248-97B6-26A66B04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1016A-439D-4149-AFF8-7AA016A2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E59A-68C0-4A9F-A07B-F951BD23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C9F90-89B3-4F8D-83FE-EE33CC42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8BE96-9217-428B-9AF4-683D9C10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AE681-21F5-4C3E-902E-499DBCA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290CD-E023-48C2-A0DF-1441EF7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8ED73-237A-45CD-9649-9DBD087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84D31-55AE-4E34-AB2F-2D82BC5E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12301-C9F8-47F8-AA0E-B597314F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36B13-3CF9-487E-81E0-CBD74434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88EEF-4F90-465C-9BAC-5D3A0D4C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43B08-02C7-47A8-B1D7-A67471FF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C61C-DECF-42B1-AC0A-186A3E4D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E3EE9-8957-4DD1-89B4-5479B442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D608C-9623-47F0-83AD-E216D944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22769-5499-4E08-B0D1-621525F1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49101-4513-4321-B869-D28DC15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C91DB-9B47-463F-B66B-52059BD3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C7ECB-F143-46EF-8A05-A2B45A5C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86F53-B47A-46DE-888C-F7B7A2D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CA4B2-C174-49B5-8D81-B1B77BB3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0F0C3-0400-4857-9A75-EE4E1A6A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BB5ED4-5FFF-403D-A095-00A6D7A7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CB3C-1D2A-48A7-BB4D-0FC7B276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931349-9A46-4422-BA07-18D93E02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D9F44-68E1-489D-9D75-4C9F4D04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0A345-18A7-42EE-98EC-5AC61066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7CEC0-A70C-4B21-952E-AFDE1C83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2B247-3078-4BEB-9606-C188DA7B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15546-E809-46BF-B41E-415C0F42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5E506-DAC8-4BE3-BCFA-1D99E131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36EBB0-2FBB-4FFA-85A6-0FB256CD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AD6DE-D0C4-4EDC-945A-50ED6417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855F9-A83D-4E42-A918-15702178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C627-0B2F-4E38-A90F-22CA7E10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E99D1-2161-4FCA-893F-05FA0CE7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E279-6189-459B-8BDE-33F206E0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0087-2904-46E9-818F-AA958E82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37DF-3A30-46BA-B8DD-9FAF9E1D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81F81-0E4D-4EB0-9A0D-83E8F9DE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64FD-9B72-4F83-B4F8-DC94B5B6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F20-F5DB-4855-8E84-30C637F8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2798-248F-4228-BB46-8F0FC195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1D16-D5D0-464F-866D-342406DB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E69B-4992-4F9A-8E7E-BFD2974F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E92D-F515-4A64-BE43-2B052D9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9FEA-B669-49FF-8F55-43BD15FB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1835-5D76-4118-8011-62951A91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2210-8627-4D18-B3AD-63802407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B14CD-F7C0-421C-9933-C2F2BF13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D3D2B-3DAF-445D-A1B0-B1F3BCB8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139E-2C6C-4CA2-8176-C4D18DF6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5D0-DDF4-4655-B744-997E6C5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F458-AF0A-4E3B-8166-5A9D4387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8BB1-BC71-4C84-85B8-899986DD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DC8B5-18B6-4850-BC00-E35C21B8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09FC-5177-4577-B664-310E2716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AA61-924A-49CE-A6DC-FB9F90A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0EAEF-0017-4651-B12C-0DE9AF56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BB98D-0584-4E83-9250-74A3C6A2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E7A3-CF7A-454D-B38E-011BB55E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41A31-6FDD-483A-A7B7-6E3E3C4D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AEB9-6197-4C49-8FEB-A418F699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853-CF50-4AA9-8C59-BE80DE56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35D19-8880-486B-ACED-DF8C47D9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6466-66A9-4C79-96D9-5AA11E5C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BE09-9388-44C3-814C-0752BD00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5E335-851E-40B7-A4D8-B834643B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C001-EFCB-454F-ABC1-EF73FBFB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8DEFD-8AA1-4536-BE2B-C6D5A78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8F11-D52D-433F-B6F3-8AA8F4A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784CE-A3F6-4714-BC72-38C0C2CA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EB27-9327-46F4-9435-EF4500A7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A0494-455D-4739-B3AA-3B9E34FA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172-4542-405E-AF1A-1428466D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8B6E0-85CE-4DAD-BF57-F93BEFF9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E06A-BC4D-4C11-9DB5-D9DFFE40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59978-95A1-493B-B226-3C577553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D2066-3549-4938-86A7-545DE593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75B66-28A2-419D-B8D5-2B324C03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53564-6100-4EFC-9B93-C1C66662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18D3A-39EF-427B-A103-D82281A8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B79B9-571E-4CBF-8A3E-7A6FF81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2F21-F32A-48B6-933E-A798717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E70A-AFD5-4363-A3C5-BEAC83A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853-69DB-4F9C-A828-8D7D53C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6993B-9E5E-4195-8129-8CF48622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B19C6-7E07-4203-B42B-388ACF00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06AB3-2D30-423B-9908-640D87CB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40E1A-CB8E-49BE-82CC-9F968136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85014-E0E4-4F4C-B02D-264413DD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4F323-8885-4884-98A3-F3F06760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12DAA-118E-458B-BE1E-9BF51436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86AFC-CCA5-4D97-8D8D-84A0DBD2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61D2-5BBA-4367-A794-5CA13996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C5AA1-6AD0-4529-8B03-169A092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E11-5334-4388-9600-9F17E585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95E66-8D52-4086-AC3C-3ED6DCF5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4473B-CAD5-4039-802B-91427B74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59CC4-9CD3-4D93-97F4-D1E53517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40A6E-808F-4FE1-ADAD-BB7800CD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D6A4A-8E0B-46DA-B264-C49C511C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D462E-1959-436F-8F7D-51ABECB0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F6589-B333-4BA5-8CD9-31C9C72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B2D22-075B-49EB-91F4-DB556D45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B1E43-7E8A-48FA-9DAB-92E68C66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C00E0-2380-42BA-8F86-46EB9FFF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E79-5C88-4488-9C25-9B2D770E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66879-7277-4AEA-930C-C16EBEAA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71AD0-23A8-4C17-82DE-B6D82004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B1BB4-78FD-4778-9FE7-50F2331B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C4B2-503E-4DFD-ABDC-5DEDCB9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DD321-A8CD-4185-9E63-F40FA7B2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B070A-6DAD-4481-B232-5EC9602C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4E465-BA7F-4009-A64F-02A9CCB1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83908-7059-46B2-ACA0-71A58C43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EFC01-2C47-40B4-9F83-B49853A5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31701-63FC-457C-AB40-1BD9C504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0D19-0A3C-46B4-9EAB-45DB452133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0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40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01A-B9B6-41E5-BC37-82D509A6CCE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DD89-9386-4A7C-AD3B-581D03469D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9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0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B4AC-64E3-4363-B70D-857A1C450D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5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DF50-7711-4B98-82DC-FAD209033CC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41E6-E4BD-485C-8EA9-F2DAECA4E7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3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64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64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FB11-9B0A-4811-B02E-48D8B6E1178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3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69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69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2FC-2931-496B-984E-7B8A0E718EE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8215-EFE1-425B-8E91-B4569B8666C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8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78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79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6858-7CE5-4FAA-8E3A-48BF1373E51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3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83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84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3D6-251A-4B4E-A3B5-D28A723F4B4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848D-1AAA-4CAB-B704-6957191346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D98-ADA6-4232-921A-EA1FFCFD26E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66FE-45E5-4B0B-B2F5-B359D403E6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D62E-477E-488B-AEDE-CE1E44F41E3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3FD5-83C8-4684-BAE6-390C7EE852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20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1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E378-E192-4481-AB9E-3B253ACFD95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25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6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030-480E-4DE7-80FC-B17861BE37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9B73-43FB-4F49-A890-45EFB97E3A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35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35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F933-3260-4C00-BF6A-C2FAE3A1E37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%3A%2F%2Fwww.mun.ca%2Fbiology%2Fscarr%2FHuman_Karyotype.html&amp;ei=wAKdVcqBD-TiywPfnqLYCg&amp;bvm=bv.96952980,d.bGQ&amp;psig=AFQjCNF55IXNPyiNeL-unh5YSCyZAoWgvA&amp;ust=1436439609999253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contexo.info%2FDNA_Basics%2Fchromosomes.htm&amp;ei=DgOdVZTLHOLYyAO2z5rICg&amp;bvm=bv.96952980,d.bGQ&amp;psig=AFQjCNEozFmLUAcNf-8myRDz0fo94viffg&amp;ust=1436439668686197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osullivanlab.squarespace.com%2Fabout-telomeres%2F&amp;ei=i4afVbrCC8jxULetrpgL&amp;bvm=bv.97653015,d.bGQ&amp;psig=AFQjCNHiWvEz4xnNG97lgIJaLlBo8JV8aQ&amp;ust=1436604330241260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google.rs/url?sa=i&amp;rct=j&amp;q=&amp;esrc=s&amp;source=images&amp;cd=&amp;cad=rja&amp;uact=8&amp;ved=0CAcQjRw&amp;url=http%3A%2F%2Fwww.rechargebiomedical.com%2Faging%2Ftelomeres-and-telomerase%2F&amp;ei=44afVaKSMcjTUf-Ug6gL&amp;bvm=bv.97653015,d.bGQ&amp;psig=AFQjCNHiWvEz4xnNG97lgIJaLlBo8JV8aQ&amp;ust=1436604330241260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rechargebiomedical.com%2Faging%2Ftelomeres-and-telomerase%2F&amp;ei=44afVaKSMcjTUf-Ug6gL&amp;bvm=bv.97653015,d.bGQ&amp;psig=AFQjCNHiWvEz4xnNG97lgIJaLlBo8JV8aQ&amp;ust=1436604330241260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google.rs/url?sa=i&amp;rct=j&amp;q=&amp;esrc=s&amp;source=images&amp;cd=&amp;cad=rja&amp;uact=8&amp;ved=0CAcQjRw&amp;url=http%3A%2F%2Fwww.rviplanning.com%2F2015%2F01%2Fstress-chromosomes-and-nature%2F&amp;ei=HoefVavaDsuvU_qWhPgE&amp;bvm=bv.97653015,d.bGQ&amp;psig=AFQjCNHiWvEz4xnNG97lgIJaLlBo8JV8aQ&amp;ust=1436604330241260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www.revivemdmedicalgroup.com/telomere-testing.html" TargetMode="External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47560" y="5029200"/>
            <a:ext cx="68785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enetics</a:t>
            </a:r>
            <a:br>
              <a:rPr sz="4800"/>
            </a:br>
            <a:br>
              <a:rPr sz="43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romatin-chromosome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DNA + PROTEIN + RNA = CHROM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lasses of PROTEINS enter the structure of chromosom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histone, acidic or residual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4648320" y="914400"/>
            <a:ext cx="406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cording to Watson and Crick (1953), the DNA molecule consists of two polynucleotide chains of complementary structure that are spirally wrapped around each other and interconnected by H-bo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2" name="Picture 5" descr="DNA"/>
          <p:cNvPicPr/>
          <p:nvPr/>
        </p:nvPicPr>
        <p:blipFill>
          <a:blip r:embed="rId1"/>
          <a:stretch/>
        </p:blipFill>
        <p:spPr>
          <a:xfrm>
            <a:off x="3808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asic unit of DNA is deoxyribonucleotid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oxyribonucleotide consist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oxyribose pentose su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rus groups (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rogen bases - purine (A, G) or pyrimidine (T, 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pending on the type of base, we distinguish 4 types of deoxyribonucleot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ighboring nucleotides are connected by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hosphodieste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onds, and opposite nucleotides by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Picture 9" descr="nuclei1"/>
          <p:cNvPicPr/>
          <p:nvPr/>
        </p:nvPicPr>
        <p:blipFill>
          <a:blip r:embed="rId1"/>
          <a:srcRect l="0" t="0" r="0" b="13295"/>
          <a:stretch/>
        </p:blipFill>
        <p:spPr>
          <a:xfrm>
            <a:off x="6343560" y="1184400"/>
            <a:ext cx="2800440" cy="2361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5" descr="nucleotides"/>
          <p:cNvPicPr/>
          <p:nvPr/>
        </p:nvPicPr>
        <p:blipFill>
          <a:blip r:embed="rId2"/>
          <a:stretch/>
        </p:blipFill>
        <p:spPr>
          <a:xfrm>
            <a:off x="4800600" y="3581280"/>
            <a:ext cx="43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 molecul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76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nlike DNA, RNA is a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single-strand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molecu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bonucleotide contains the pentose sugar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d instead of thymine, the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yrimidine base is re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5" descr="dna_versus_rna_reversed"/>
          <p:cNvPicPr/>
          <p:nvPr/>
        </p:nvPicPr>
        <p:blipFill>
          <a:blip r:embed="rId1"/>
          <a:srcRect l="0" t="0" r="0" b="11492"/>
          <a:stretch/>
        </p:blipFill>
        <p:spPr>
          <a:xfrm>
            <a:off x="4876920" y="762120"/>
            <a:ext cx="4190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sr-CS" sz="4100" spc="-1" strike="noStrike">
                <a:solidFill>
                  <a:srgbClr val="ff95c0"/>
                </a:solidFill>
                <a:latin typeface="Corbe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istone proteins (histones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01400" y="1218960"/>
            <a:ext cx="5181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proteins, 100-200 amino acids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-30% ARGININE+ and LYSINE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important for the structural organization of chroma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non-specific inhibitors of gene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istinguish 5 classes of histon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1, H2A, H2B, H3, H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histones except H1, with 2 molecules each, build the octameric nucleosome c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5" descr=""/>
          <p:cNvPicPr/>
          <p:nvPr/>
        </p:nvPicPr>
        <p:blipFill>
          <a:blip r:embed="rId1"/>
          <a:stretch/>
        </p:blipFill>
        <p:spPr>
          <a:xfrm>
            <a:off x="5735520" y="2924280"/>
            <a:ext cx="33829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12920" y="64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some - basic unit of chromatin structure; histone H1 binds DNA to the nucleosome core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74" name="Picture 9" descr=""/>
          <p:cNvPicPr/>
          <p:nvPr/>
        </p:nvPicPr>
        <p:blipFill>
          <a:blip r:embed="rId1"/>
          <a:stretch/>
        </p:blipFill>
        <p:spPr>
          <a:xfrm>
            <a:off x="1727280" y="4157640"/>
            <a:ext cx="5492520" cy="2685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"/>
          <p:cNvPicPr/>
          <p:nvPr/>
        </p:nvPicPr>
        <p:blipFill>
          <a:blip r:embed="rId2"/>
          <a:stretch/>
        </p:blipFill>
        <p:spPr>
          <a:xfrm>
            <a:off x="3048120" y="1839960"/>
            <a:ext cx="25416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Non-histone, acidic or residual protei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represented in a small amount in chromoso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a number of classes of these prote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specific for each type of org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plication and transcription 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istone modifiers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gulatory proteins (specific gene activato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4" descr="chromatin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1488960"/>
            <a:ext cx="4876560" cy="520092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9"/>
          <p:cNvSpPr/>
          <p:nvPr/>
        </p:nvSpPr>
        <p:spPr>
          <a:xfrm>
            <a:off x="1257480" y="541440"/>
            <a:ext cx="66294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 of DNA molecules to the metaphas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hromozom elek mikro-1"/>
          <p:cNvPicPr/>
          <p:nvPr/>
        </p:nvPicPr>
        <p:blipFill>
          <a:blip r:embed="rId1"/>
          <a:stretch/>
        </p:blipFill>
        <p:spPr>
          <a:xfrm>
            <a:off x="1517760" y="1219320"/>
            <a:ext cx="5711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HROMOZOMI 4 I 5"/>
          <p:cNvPicPr/>
          <p:nvPr/>
        </p:nvPicPr>
        <p:blipFill>
          <a:blip r:embed="rId1"/>
          <a:srcRect l="0" t="0" r="0" b="50596"/>
          <a:stretch/>
        </p:blipFill>
        <p:spPr>
          <a:xfrm>
            <a:off x="1752480" y="2209680"/>
            <a:ext cx="5715000" cy="320040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metaphase chromosom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50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2361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The science of the inheritance of traits, as well as the variability of traits that are inheri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Gregor Mendel (1822.-1884.), known as the "father of modern gene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Our modern understanding of how traits may be inherited through generations comes from the principles proposed by Gregor Men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ryotype, karyogram, idiogra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80520" y="198072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chromosomes in the nucleus of a cell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y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hotographed karyotype chromosomes, cut out and ordered by shape and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i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chematic representation of chromosome regions and sub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karyotyp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86" name="Picture 5" descr="https://encrypted-tbn0.gstatic.com/images?q=tbn:ANd9GcSocEZjt2-1mUBQQnOMpzHy8U0F22rVyI8UzRfIaovv7PYb4s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981080"/>
            <a:ext cx="5181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Human karyogra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88" name="Picture 5" descr="http://www.contexo.info/DNA_Basics/images/karyotypeX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1337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Idiogram of human chromosom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90" name="Picture 4" descr=""/>
          <p:cNvPicPr/>
          <p:nvPr/>
        </p:nvPicPr>
        <p:blipFill>
          <a:blip r:embed="rId1"/>
          <a:srcRect l="0" t="19032" r="0" b="0"/>
          <a:stretch/>
        </p:blipFill>
        <p:spPr>
          <a:xfrm>
            <a:off x="1905120" y="2133720"/>
            <a:ext cx="50958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a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phological structure of the human chromosom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92" name="Picture 7" descr=""/>
          <p:cNvPicPr/>
          <p:nvPr/>
        </p:nvPicPr>
        <p:blipFill>
          <a:blip r:embed="rId1"/>
          <a:stretch/>
        </p:blipFill>
        <p:spPr>
          <a:xfrm>
            <a:off x="1274760" y="2286000"/>
            <a:ext cx="6781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entromere (primary constriction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centrom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two sister chromatids of a chromo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the chromosome with the threads of the dividing spindle - the mechanical center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netoch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chromosomes normally have 1 centromere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romosome with a larger number of centromeres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cen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romosome, and one without a centromere i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en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romos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chromosomes according to the position of the centromer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6" name="Rectangle 8"/>
          <p:cNvSpPr/>
          <p:nvPr/>
        </p:nvSpPr>
        <p:spPr>
          <a:xfrm>
            <a:off x="1752480" y="5334120"/>
            <a:ext cx="54864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uman karyotype normally contai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rocen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10" descr="Centromere- Definition, Structure, Position, Types, Functions"/>
          <p:cNvPicPr/>
          <p:nvPr/>
        </p:nvPicPr>
        <p:blipFill>
          <a:blip r:embed="rId1"/>
          <a:srcRect l="0" t="14987" r="0" b="0"/>
          <a:stretch/>
        </p:blipFill>
        <p:spPr>
          <a:xfrm>
            <a:off x="685800" y="1781280"/>
            <a:ext cx="79246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uchromati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51920" y="236196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ndensed chromat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s brighter with basic dy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ich in CG base pai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plicates early during the S phase of interph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functionally active part of chromat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Picture 4" descr="nucchr3"/>
          <p:cNvPicPr/>
          <p:nvPr/>
        </p:nvPicPr>
        <p:blipFill>
          <a:blip r:embed="rId1"/>
          <a:stretch/>
        </p:blipFill>
        <p:spPr>
          <a:xfrm>
            <a:off x="4714920" y="685800"/>
            <a:ext cx="4213080" cy="167652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5" descr=""/>
          <p:cNvPicPr/>
          <p:nvPr/>
        </p:nvPicPr>
        <p:blipFill>
          <a:blip r:embed="rId2"/>
          <a:stretch/>
        </p:blipFill>
        <p:spPr>
          <a:xfrm>
            <a:off x="4978440" y="2717640"/>
            <a:ext cx="412740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2" descr="Euchromatin - Wikipedia"/>
          <p:cNvPicPr/>
          <p:nvPr/>
        </p:nvPicPr>
        <p:blipFill>
          <a:blip r:embed="rId2"/>
          <a:stretch/>
        </p:blipFill>
        <p:spPr>
          <a:xfrm>
            <a:off x="717480" y="12600"/>
            <a:ext cx="7709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Heterochromati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279000" y="1447920"/>
            <a:ext cx="595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ensed part of chromat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tained darker with base dy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ich in AT base pai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plicates late in S ph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heterochromati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stitutive – located in the region of the centrome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cultative - represents the functionally inactive state of some chromosomes (only one chromosome from the pair - eg inactive X chromosom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5946840" y="1074600"/>
            <a:ext cx="2971800" cy="23036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6" descr=""/>
          <p:cNvPicPr/>
          <p:nvPr/>
        </p:nvPicPr>
        <p:blipFill>
          <a:blip r:embed="rId2"/>
          <a:stretch/>
        </p:blipFill>
        <p:spPr>
          <a:xfrm>
            <a:off x="6235560" y="3751200"/>
            <a:ext cx="2772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2" descr="Gregor Mendel (1860's) discovered the fundamental principles of... |  Download Scientific Diagram"/>
          <p:cNvPicPr/>
          <p:nvPr/>
        </p:nvPicPr>
        <p:blipFill>
          <a:blip r:embed="rId2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492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econdary constrictio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30492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role of secondary constriction is the synthesis of material that enters the structure of the nucleolus - "nucleolar organizing regions“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OR reg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t consists of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rately repetitive DNA sequenc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at region are the genes for r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hromosomes in the human karyotype have secondary constrictions. They are found o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ms of chromosom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 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ms of all acrocentric chromosome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, 14, 15, 21 and 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Picture 8" descr="What is secondary constriction of chromosome Explain with diagram - 1p3jydbb"/>
          <p:cNvPicPr/>
          <p:nvPr/>
        </p:nvPicPr>
        <p:blipFill>
          <a:blip r:embed="rId1"/>
          <a:stretch/>
        </p:blipFill>
        <p:spPr>
          <a:xfrm>
            <a:off x="2743200" y="4797360"/>
            <a:ext cx="34988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atellit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368280" y="1980720"/>
            <a:ext cx="4425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5520" indent="-343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re located at the ends of th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rms of acrocentric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ary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can be double or sing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do not contain functional gen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Picture 8" descr="Резултат слика за chromosome satellite images"/>
          <p:cNvPicPr/>
          <p:nvPr/>
        </p:nvPicPr>
        <p:blipFill>
          <a:blip r:embed="rId1"/>
          <a:stretch/>
        </p:blipFill>
        <p:spPr>
          <a:xfrm>
            <a:off x="4794120" y="2209680"/>
            <a:ext cx="4108680" cy="2895840"/>
          </a:xfrm>
          <a:prstGeom prst="rect">
            <a:avLst/>
          </a:prstGeom>
          <a:ln w="0">
            <a:noFill/>
          </a:ln>
        </p:spPr>
      </p:pic>
      <p:sp>
        <p:nvSpPr>
          <p:cNvPr id="1015" name="Down Arrow 12"/>
          <p:cNvSpPr/>
          <p:nvPr/>
        </p:nvSpPr>
        <p:spPr>
          <a:xfrm>
            <a:off x="7696080" y="24382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elomer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7632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omeres are the ends of chromoso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hromosomes in the telomere region contain a sequence of 6 nucleoti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AGG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repeated several thousand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role of telomeres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linear integrity of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he chromosomes to the inner side of the nuclear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regulate the length of the cell's life, since they change during development, they regulate the number of cell div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Picture 9" descr="http://static1.squarespace.com/static/532e4d42e4b0ff70f47aa68a/534192fbe4b09aa0fe627b63/53419735e4b0cccdfc3bb867/1397173735746/Aging-process-affected-by-lifestyle-and-telomere-length-650x48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7621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1" descr="http://rechargebiomedical.com/userfiles/images/telomere-zoo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2887560"/>
            <a:ext cx="2666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200" y="495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omeres regulate life spa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23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1" descr="http://rechargebiomedical.com/userfiles/images/telomere-zo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895480"/>
            <a:ext cx="2667240" cy="1447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" descr="http://www.rviplanning.com/wp-content/uploads/2015/01/ChromosomeTelomer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440" y="1973160"/>
            <a:ext cx="6139080" cy="42674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http://www.revivemdmedicalgroup.com/uploads/2/4/4/8/2448782/9089254.jpg?2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48440" y="111924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6" descr="http://www.buzzle.com/img/articleImages/597297-5555-20.jpg"/>
          <p:cNvPicPr/>
          <p:nvPr/>
        </p:nvPicPr>
        <p:blipFill>
          <a:blip r:embed="rId7"/>
          <a:stretch/>
        </p:blipFill>
        <p:spPr>
          <a:xfrm>
            <a:off x="6477120" y="2819520"/>
            <a:ext cx="2476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omeres stained by fluorescenc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 sit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ybridization (FISH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6400800" y="3352680"/>
            <a:ext cx="1981080" cy="114300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s indicate the existence of telomeric reg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6" descr="https://encrypted-tbn3.gstatic.com/images?q=tbn:ANd9GcQBgvOCWDTlB-Be7AIF00Cvee5qcMoTagZES3dxx360Pe-7ZTxn"/>
          <p:cNvPicPr/>
          <p:nvPr/>
        </p:nvPicPr>
        <p:blipFill>
          <a:blip r:embed="rId1"/>
          <a:stretch/>
        </p:blipFill>
        <p:spPr>
          <a:xfrm>
            <a:off x="1752480" y="2133720"/>
            <a:ext cx="4191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rdization of the human karyo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the human karyotype was carried out at conferences in Denver (1960), London (1963), Chicago (1966) and Paris (197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 karyotype is defined, the chromosomes are divided into 7 groups based on the length of the chromosome and the position of the centromere, the sex X chromosome is classified into the C group, and the Y into the G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d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 importance of the autoradiographic method in the study of replication was highlighted, satellites were observed on acrocentric chromosomes, and the Y chromosome was studied in det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Chicago, chromosomes are classified into 7 groups (A, B, C, D, E, F, G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35" name="Picture 3" descr="solidktp"/>
          <p:cNvPicPr/>
          <p:nvPr/>
        </p:nvPicPr>
        <p:blipFill>
          <a:blip r:embed="rId1"/>
          <a:stretch/>
        </p:blipFill>
        <p:spPr>
          <a:xfrm>
            <a:off x="1371600" y="1905120"/>
            <a:ext cx="640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ulas for marking karyotypes were defined in Chicago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152280" y="2438280"/>
            <a:ext cx="3657600" cy="236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female kary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6,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male kary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6,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4572000" y="2286000"/>
            <a:ext cx="4114800" cy="396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s of aberrant karyotypes (example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er syndr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 syndr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47,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(+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inefelter syndr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47,Х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ng chromosome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46,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Paris, chromosomes banding techniques were defin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, C, Q and R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40" name="Picture 9" descr="dobar G band"/>
          <p:cNvPicPr/>
          <p:nvPr/>
        </p:nvPicPr>
        <p:blipFill>
          <a:blip r:embed="rId1"/>
          <a:stretch/>
        </p:blipFill>
        <p:spPr>
          <a:xfrm>
            <a:off x="457200" y="2133720"/>
            <a:ext cx="3581280" cy="37335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1041" name="Picture 10" descr="humani genom C bend"/>
          <p:cNvPicPr/>
          <p:nvPr/>
        </p:nvPicPr>
        <p:blipFill>
          <a:blip r:embed="rId2"/>
          <a:stretch/>
        </p:blipFill>
        <p:spPr>
          <a:xfrm>
            <a:off x="4648320" y="2133720"/>
            <a:ext cx="4012920" cy="369072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sp>
        <p:nvSpPr>
          <p:cNvPr id="1042" name="Rectangle 4"/>
          <p:cNvSpPr/>
          <p:nvPr/>
        </p:nvSpPr>
        <p:spPr>
          <a:xfrm>
            <a:off x="1219320" y="6019920"/>
            <a:ext cx="2057400" cy="380880"/>
          </a:xfrm>
          <a:prstGeom prst="rect">
            <a:avLst/>
          </a:prstGeom>
          <a:solidFill>
            <a:srgbClr val="b5ed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 ban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"/>
          <p:cNvSpPr/>
          <p:nvPr/>
        </p:nvSpPr>
        <p:spPr>
          <a:xfrm>
            <a:off x="5562720" y="5943600"/>
            <a:ext cx="2057400" cy="380880"/>
          </a:xfrm>
          <a:prstGeom prst="rect">
            <a:avLst/>
          </a:prstGeom>
          <a:solidFill>
            <a:srgbClr val="b5edfd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techn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Branches of genetics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5684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ording to the level of organization of hereditary matter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Molecular gen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Cytogenetics (Radiation genetics and Chemical mutagene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Genetics of development (Cancer genetics, Immunogenetics, Genetics of ag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Population genetics (Evolutionary and Ecologic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chromosomes stained with the Q banding techniqu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45" name="Picture 2" descr="http://www.spectral-imaging.com/sites/default/files/pictures/products/Qbanding%20(1).JPG"/>
          <p:cNvPicPr/>
          <p:nvPr/>
        </p:nvPicPr>
        <p:blipFill>
          <a:blip r:embed="rId1"/>
          <a:stretch/>
        </p:blipFill>
        <p:spPr>
          <a:xfrm>
            <a:off x="838080" y="1752480"/>
            <a:ext cx="6782040" cy="4419720"/>
          </a:xfrm>
          <a:prstGeom prst="rect">
            <a:avLst/>
          </a:prstGeom>
          <a:ln w="0">
            <a:noFill/>
          </a:ln>
        </p:spPr>
      </p:pic>
      <p:sp>
        <p:nvSpPr>
          <p:cNvPr id="1046" name="Rectangle 4"/>
          <p:cNvSpPr/>
          <p:nvPr/>
        </p:nvSpPr>
        <p:spPr>
          <a:xfrm>
            <a:off x="3733920" y="6248520"/>
            <a:ext cx="1600200" cy="457200"/>
          </a:xfrm>
          <a:prstGeom prst="rect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,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chromosomes stained with the R banding techniqu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48" name="Picture 2" descr="http://www.nature.com/bmt/journal/v33/n2/images/1704308f1.jpg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076640"/>
          </a:xfrm>
          <a:prstGeom prst="rect">
            <a:avLst/>
          </a:prstGeom>
          <a:ln w="0">
            <a:noFill/>
          </a:ln>
        </p:spPr>
      </p:pic>
      <p:sp>
        <p:nvSpPr>
          <p:cNvPr id="1049" name="Rectangle 4"/>
          <p:cNvSpPr/>
          <p:nvPr/>
        </p:nvSpPr>
        <p:spPr>
          <a:xfrm>
            <a:off x="3809880" y="6095880"/>
            <a:ext cx="1371600" cy="457200"/>
          </a:xfrm>
          <a:prstGeom prst="rect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7, Х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15192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Constantia"/>
              </a:rPr>
              <a:t>http://learn.genetics.utah.edu/content/basics/karyotype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According to the type of organism on which the study is carried out:</a:t>
            </a: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icrobial Ge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Plant ge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nimal ge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Human ge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7" name="Picture 5" descr="Genetics - Biology As Poetry"/>
          <p:cNvPicPr/>
          <p:nvPr/>
        </p:nvPicPr>
        <p:blipFill>
          <a:blip r:embed="rId1"/>
          <a:srcRect l="16667" t="0" r="15834" b="0"/>
          <a:stretch/>
        </p:blipFill>
        <p:spPr>
          <a:xfrm>
            <a:off x="4584600" y="2011320"/>
            <a:ext cx="38862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4617b"/>
                </a:solidFill>
                <a:latin typeface="Arial"/>
              </a:rPr>
              <a:t>Chromosomes of eukaryot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2286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ocated in the nucleus of the 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ook different depending on the phase of the cell cyc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interphase nucleus- chromatin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rom the beginning of cell division - chromatin is condensed and organized into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5" descr=""/>
          <p:cNvPicPr/>
          <p:nvPr/>
        </p:nvPicPr>
        <p:blipFill>
          <a:blip r:embed="rId1"/>
          <a:stretch/>
        </p:blipFill>
        <p:spPr>
          <a:xfrm>
            <a:off x="609480" y="4711680"/>
            <a:ext cx="4572000" cy="1981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2"/>
          <a:stretch/>
        </p:blipFill>
        <p:spPr>
          <a:xfrm>
            <a:off x="6006960" y="4711680"/>
            <a:ext cx="2590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93480" y="72396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omatic cells - 46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23 pairs (2n-diploid number of chromoso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2 pairs are autosomal chromosomes and 1 pair are sex chromoso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emale gender - XX sex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ale gender - XY sex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1" descr=""/>
          <p:cNvPicPr/>
          <p:nvPr/>
        </p:nvPicPr>
        <p:blipFill>
          <a:blip r:embed="rId1"/>
          <a:stretch/>
        </p:blipFill>
        <p:spPr>
          <a:xfrm>
            <a:off x="954000" y="4621320"/>
            <a:ext cx="3276720" cy="21240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2" descr=""/>
          <p:cNvPicPr/>
          <p:nvPr/>
        </p:nvPicPr>
        <p:blipFill>
          <a:blip r:embed="rId2"/>
          <a:srcRect l="0" t="24235" r="4567" b="6799"/>
          <a:stretch/>
        </p:blipFill>
        <p:spPr>
          <a:xfrm>
            <a:off x="6396120" y="5045040"/>
            <a:ext cx="2354040" cy="127476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1"/>
          <p:cNvSpPr/>
          <p:nvPr/>
        </p:nvSpPr>
        <p:spPr>
          <a:xfrm>
            <a:off x="6553080" y="6389640"/>
            <a:ext cx="798480" cy="325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7729560" y="6373800"/>
            <a:ext cx="798480" cy="325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COMPOSITION OF CHROMOSOMES OF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Microsoft Office User</cp:lastModifiedBy>
  <cp:lastPrinted>2024-02-13T06:36:03Z</cp:lastPrinted>
  <dcterms:modified xsi:type="dcterms:W3CDTF">2024-02-13T07:48:29Z</dcterms:modified>
  <cp:revision>186</cp:revision>
  <dc:subject/>
  <dc:title>2-Humani genom</dc:title>
</cp:coreProperties>
</file>